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D71C-D6CD-44A3-9AAC-EAC550E93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229A-9489-4907-8813-621C244A7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2E35-B2D2-4273-90A1-8CCA98FD4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580F-B34A-48F8-B629-7CE46D925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56A-1194-4578-B668-2D504AC0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29E-482B-4844-B47D-F3A6B06B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88E-5475-42C4-9333-3FD42058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BAA-FBCD-401E-BF8F-6EBDF759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DF437-16B8-40B6-8F5C-CAB8D080D4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1A488-D387-4A60-80D8-95263A0B29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8D8C1-7EC2-482A-8DFD-16902BEDA6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E5210-75D3-4519-8F3D-1C0460B6E6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86168-9A74-4766-A847-982079D99E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707A5-B76F-4359-8765-80E8FCC5CD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724F2-9242-498C-B650-DBDADF6039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36E-1BCE-4B5B-9497-A7C2B550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3B8E8-F5EF-4EC2-BE1D-DF9D8CE5C5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E0994-2F90-4FDB-A5E5-1E825EEF35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C05CF-0E01-41BE-8540-E255ACC3EE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8A9D4-77C3-479B-B9A6-1B710891D1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2F155-2900-4C32-9ADE-69E889471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E19-0944-490A-BEFC-E58A4096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1A8-86A2-4FF8-A0D0-485184F8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919-2AF3-4811-AAC8-AE1646ED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162-8893-4775-A9D3-DF641A0D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161-F8C3-4325-8498-C9E77FC0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73B-9FFC-4D36-9C6B-1B1E8DE7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0B9-66E9-4260-8131-FDFE53E3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19A7-0032-4EFA-AA0C-A94B6A38D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AFBE-8B0B-4982-9DBB-FF6BF9951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B59E-F076-4AEE-B00F-C10ADDE4E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-241200" y="-189000"/>
            <a:ext cx="9667800" cy="704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166680" y="836640"/>
          <a:ext cx="9439200" cy="5843520"/>
        </p:xfrm>
        <a:graphic>
          <a:graphicData uri="http://schemas.openxmlformats.org/drawingml/2006/table">
            <a:tbl>
              <a:tblPr/>
              <a:tblGrid>
                <a:gridCol w="1055520"/>
                <a:gridCol w="892440"/>
                <a:gridCol w="1241280"/>
                <a:gridCol w="5018040"/>
                <a:gridCol w="1231920"/>
              </a:tblGrid>
              <a:tr h="99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V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Area of Foc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Success Metric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* All success metrics to be completed by Spring ’08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ommitments to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</a:tr>
              <a:tr h="9284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c0504d"/>
                          </a:solidFill>
                          <a:latin typeface="Verdana"/>
                        </a:rPr>
                        <a:t>Provide access to quality and efficient programs and services to ensure student succes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w enrollment by 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gressively market/outreach to prospective student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high school collaboration by articulating &amp; developing programs to support students educational goal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 data on students from immigrant, low-income, and other underrepresented groups by August, 2007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iculum and Progra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and curriculum &amp; programs by 10%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certificate/degree distance ed. courses by 25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non-credit/community ed. progr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ew established timeline and conduct comprehensive program reviews in every academic discipline and student services area according to the prescribed timelin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amline curriculum committee process by incorporating more electronic procedures, proactive workshops &amp; training on course outline development, and state regulation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plan to develop additional vocational /workforce programs, seek grants to support programs (i.e. SB 7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lyze and clearly define existing mini-certificate programs and link with student succes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 current distance education courses leading to a full certificate/degree program. Develop plans for expansion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ew and revise campus technology plans and train faculty in distance education technology such as Web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degree completion /transfers by 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retention /completion rate 10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rease students on probation by 10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 students with opportunities to engage in a vibrant and active campus life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 current and develop new intervention programs designed to help students succee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comprehensive Learning Resource Center to assist student need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1 new transfer agreement and launch promotional campaign on transfer agreemen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sure faculty and staff have accessible data tracking tool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28"/>
          <p:cNvSpPr/>
          <p:nvPr/>
        </p:nvSpPr>
        <p:spPr>
          <a:xfrm>
            <a:off x="304920" y="250920"/>
            <a:ext cx="84168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rebuchet MS"/>
              </a:rPr>
              <a:t>Student Cent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727E-05D8-4108-882E-74DA764D7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1063800"/>
            <a:ext cx="9144000" cy="57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833400"/>
          <a:ext cx="9075600" cy="5830920"/>
        </p:xfrm>
        <a:graphic>
          <a:graphicData uri="http://schemas.openxmlformats.org/drawingml/2006/table">
            <a:tbl>
              <a:tblPr/>
              <a:tblGrid>
                <a:gridCol w="1022400"/>
                <a:gridCol w="1089000"/>
                <a:gridCol w="1182600"/>
                <a:gridCol w="4411800"/>
                <a:gridCol w="1369800"/>
              </a:tblGrid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Area of Foc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Metr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ommitments to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</a:tr>
              <a:tr h="1751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c0504d"/>
                          </a:solidFill>
                          <a:latin typeface="Verdana"/>
                        </a:rPr>
                        <a:t>Transform college image and enhance Partnerships with community, business, and educational  institutions.</a:t>
                      </a:r>
                      <a:r>
                        <a:rPr b="0" i="1" lang="en-US" sz="16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Vis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crease commun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icipation by 25%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ablish baseline data for community participation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duct faculty &amp; staff survey to assess degree of community involvemen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velop and support a comprehensive and fully integrated marketing pla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re and provide support to a full time webmaste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eate an EVC information section in the </a:t>
                      </a: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vergreen Time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The Villager &amp; local high school newspapers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crease community participation in (regularly scheduled) campus events and advisory boa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l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l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l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l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Strategic Partner-shi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eate 8-10 new j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nershi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and strategic partnerships with major industry clusters, Economic Development Agencies and the region’s Small Business Development Cente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itiate 3 new K-12 vocational  ed. partnershi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y partners for University Center at EV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ner with religious &amp; community organizations to develop offsite educational programs and servic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gotiate with VTA regarding adequate/improved bus service and direct routes for EVC students 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/No Progress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ing College to the Commu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ablish 3-5 new off-site services &amp; progra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2-3 targeted to immigrant population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duct community needs assessment survey by population segments to include senior homes, churches, 40+, immigrant groups, lifelong learne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unch offsite classes - credit/no credit offerings (@senior centers, high schools, community centers, churches, etc.) and establish locations to offer offsite registration and college services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28"/>
          <p:cNvSpPr/>
          <p:nvPr/>
        </p:nvSpPr>
        <p:spPr>
          <a:xfrm>
            <a:off x="201600" y="147600"/>
            <a:ext cx="841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rebuchet MS"/>
              </a:rPr>
              <a:t>Community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9B6F-4036-492B-854E-90DA48C1A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-282600" y="0"/>
            <a:ext cx="9694800" cy="68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28600" y="104760"/>
            <a:ext cx="84168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rebuchet MS"/>
              </a:rPr>
              <a:t>Organizational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644400"/>
          <a:ext cx="9144000" cy="5943600"/>
        </p:xfrm>
        <a:graphic>
          <a:graphicData uri="http://schemas.openxmlformats.org/drawingml/2006/table">
            <a:tbl>
              <a:tblPr/>
              <a:tblGrid>
                <a:gridCol w="1130400"/>
                <a:gridCol w="1241280"/>
                <a:gridCol w="1173240"/>
                <a:gridCol w="4419720"/>
                <a:gridCol w="1179360"/>
              </a:tblGrid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Area of Foc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Success Met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ommitment to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</a:tr>
              <a:tr h="253296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c0504d"/>
                          </a:solidFill>
                          <a:latin typeface="Verdana"/>
                        </a:rPr>
                        <a:t>Create a trusting environment whe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c0504d"/>
                          </a:solidFill>
                          <a:latin typeface="Verdana"/>
                        </a:rPr>
                        <a:t>everyone is valued and empowered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ild Commu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employee participation in college-wide activities 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successful resolution of complaints 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unication outlets will increase by 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 an annual employee survey to measure satisfaction, needs, and climate in order to have a baseline and measure progr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and schedule of events during work hours including multicultural &amp; community building ev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regular employee/family campus eve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y options to support employees resolving issues before grievance &amp; formal complaints (example: Campus Conciliation Team)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communications tools to increase outlets, such as student newspaper, website, IM, employee/student portal, handbooks/manual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opt Diversity Action Council guidelines as Campus Communications Guidelines and introduce them to all campus organizations, employees, and stud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loyee Development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employee participation 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opportunities for employee professional growth &amp; recognition 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employee participation/opportunity baselin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ue offering ongoing training and evaluate and initiate new train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ure &amp; allocate staff development funding within the college budge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 incentives and access to employees to participate in staff development opportuniti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and employee recognition program to include professional and community award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 a leadership program open to all employees who wish to participa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arent Infra-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access to clearly written policies &amp; procedures 2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Employee surve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duct audit of policies and procedures to evaluate and prioritize areas for developme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ge wide communication at all points of decision making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 open resource allo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6:06:21Z</dcterms:created>
  <dc:creator>promano</dc:creator>
  <dc:description/>
  <dc:language>en-US</dc:language>
  <cp:lastModifiedBy>Rita De La Cerda</cp:lastModifiedBy>
  <dcterms:modified xsi:type="dcterms:W3CDTF">2009-03-31T16:01:50Z</dcterms:modified>
  <cp:revision>2</cp:revision>
  <dc:subject/>
  <dc:title>C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axCatchAll">
    <vt:lpwstr>34;#IEC and Program Review|74305206-45d7-4827-ac5c-55b5d7eef816;#1;#EVC|e0724e3f-4a3d-444b-9655-a7b246ec0a0d</vt:lpwstr>
  </property>
  <property fmtid="{D5CDD505-2E9C-101B-9397-08002B2CF9AE}" pid="3" name="k60e436164b54aa196d27635423c1081">
    <vt:lpwstr>EVC|e0724e3f-4a3d-444b-9655-a7b246ec0a0d</vt:lpwstr>
  </property>
  <property fmtid="{D5CDD505-2E9C-101B-9397-08002B2CF9AE}" pid="4" name="kc6110bfc9ef43d3aa85f9287f399c79">
    <vt:lpwstr>IEC and Program Review|74305206-45d7-4827-ac5c-55b5d7eef816</vt:lpwstr>
  </property>
  <property fmtid="{D5CDD505-2E9C-101B-9397-08002B2CF9AE}" pid="5" name="sjeccdEntity">
    <vt:lpwstr>1;#EVC|e0724e3f-4a3d-444b-9655-a7b246ec0a0d</vt:lpwstr>
  </property>
  <property fmtid="{D5CDD505-2E9C-101B-9397-08002B2CF9AE}" pid="6" name="sjeccdGroup">
    <vt:lpwstr>2008-2009 Program Review</vt:lpwstr>
  </property>
  <property fmtid="{D5CDD505-2E9C-101B-9397-08002B2CF9AE}" pid="7" name="sjeccdShowOn">
    <vt:lpwstr>34;#IEC and Program Review|74305206-45d7-4827-ac5c-55b5d7eef816</vt:lpwstr>
  </property>
</Properties>
</file>